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7720" y="156960"/>
            <a:ext cx="870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3087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0066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  <a:p>
            <a:pPr lvl="1" marL="379440" indent="0"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94680" algn="ctr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9468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17760" indent="10152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0033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7720" y="156960"/>
            <a:ext cx="870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39400" y="1531440"/>
            <a:ext cx="8675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0066"/>
                </a:solidFill>
                <a:latin typeface="Times New Roman"/>
              </a:rPr>
              <a:t>Water and the Fitness of </a:t>
            </a:r>
            <a:br>
              <a:rPr sz="5500"/>
            </a:br>
            <a:r>
              <a:rPr b="0" lang="en-US" sz="5500" spc="-1" strike="noStrike">
                <a:solidFill>
                  <a:srgbClr val="990066"/>
                </a:solidFill>
                <a:latin typeface="Times New Roman"/>
              </a:rPr>
              <a:t>the Environment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A3EC-374D-4657-9DB2-B980C79AC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oderation of Temperatu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 moderates air tempera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absorbing heat from air that is warmer and releasing the stored heat to air that is coo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FD2A-6E5E-4156-A54A-825BFB81B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Heat and Temperatu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energy of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D3EF-4B5C-4C53-9B75-732D0F5DF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measure of the total amount of kinetic energy due to molecular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the intensity of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3BCB-83BE-4413-90F9-6B500E7D0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Water’s High Specific He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pecific heat of a sub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amount of heat that must be absorbed or lost for 1 gram of that substance to change its temperature by 1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1CDB-0D3E-46D4-97EC-DA16207EC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9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 has a high specific heat, which allows it to minimize temperature fluctuations to within limits that permit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is absorbed when hydrogen bonds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is released when hydrogen bonds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5568-2EDF-4A1D-96C4-2CA394E2D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vaporative Cooling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ansformation of a substance from a liquid to a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D5A5-FDCE-449D-84C3-E790A34B9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t of vapor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quantity of heat a liquid must absorb for 1 gram of it to be converted from a liquid to a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9A3C-EC69-430D-AF43-B60709DB6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porative coo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ue to water’s high heat of vapo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water to cool a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6C0D-A56D-4AF9-835E-15F73BB72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Insulation of Bodies of Water by Floating Ic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id water, or 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less dense than liqui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ats in liqui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F920-085D-4250-98A0-D7E970B47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hydrogen bonds in 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more “ordered” than in liquid water, making ice less d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99680" y="2827440"/>
            <a:ext cx="8031960" cy="3575160"/>
            <a:chOff x="499680" y="2827440"/>
            <a:chExt cx="8031960" cy="3575160"/>
          </a:xfrm>
        </p:grpSpPr>
        <p:grpSp>
          <p:nvGrpSpPr>
            <p:cNvPr id="260" name=""/>
            <p:cNvGrpSpPr/>
            <p:nvPr/>
          </p:nvGrpSpPr>
          <p:grpSpPr>
            <a:xfrm>
              <a:off x="1616400" y="2827440"/>
              <a:ext cx="6915240" cy="3575160"/>
              <a:chOff x="1616400" y="2827440"/>
              <a:chExt cx="6915240" cy="3575160"/>
            </a:xfrm>
          </p:grpSpPr>
          <p:pic>
            <p:nvPicPr>
              <p:cNvPr id="2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70560" y="2827440"/>
                <a:ext cx="6588000" cy="21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>
                <a:off x="5763240" y="5482440"/>
                <a:ext cx="2768400" cy="92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iquid wa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8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ydrogen bonds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onstantly break and re-for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16400" y="5509440"/>
                <a:ext cx="26218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ts val="1899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899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ydrogen bonds are stab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12840" y="4894560"/>
                <a:ext cx="112068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ts val="18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ydrogen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o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22880" y="3915720"/>
                <a:ext cx="127440" cy="10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499680" y="587988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3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837F-BA73-4551-A872-3F5C86DB9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view: The Molecule That Supports All of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the biological medium here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iving organisms require water more than any other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150E-EC24-4C1A-A37A-C0700BB7B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ce ice floats in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can exist under the frozen surfaces of lakes and polar s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2076-48EB-4A37-AD2C-AA00124ED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Solvent of Lif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 is a versatile solvent due to its pola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can form aqueous 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F70B-2616-4575-88B4-F940EFA55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fferent regions of the polar water molecule can interact with ionic compounds called solutes and dissolve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211040" y="2222280"/>
            <a:ext cx="6866280" cy="4229640"/>
            <a:chOff x="1211040" y="2222280"/>
            <a:chExt cx="6866280" cy="4229640"/>
          </a:xfrm>
        </p:grpSpPr>
        <p:grpSp>
          <p:nvGrpSpPr>
            <p:cNvPr id="277" name=""/>
            <p:cNvGrpSpPr/>
            <p:nvPr/>
          </p:nvGrpSpPr>
          <p:grpSpPr>
            <a:xfrm>
              <a:off x="1969920" y="2222280"/>
              <a:ext cx="6107400" cy="4203360"/>
              <a:chOff x="1969920" y="2222280"/>
              <a:chExt cx="6107400" cy="4203360"/>
            </a:xfrm>
          </p:grpSpPr>
          <p:pic>
            <p:nvPicPr>
              <p:cNvPr id="2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301840" y="2357280"/>
                <a:ext cx="5703840" cy="40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4006800" y="2319120"/>
                <a:ext cx="0" cy="102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046240" y="2222280"/>
                <a:ext cx="1960560" cy="12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r">
                  <a:lnSpc>
                    <a:spcPts val="18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egative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xygen regions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f polar water molecules are attracted to sodium cations (Na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320960" y="289872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773480" y="378756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286040" y="319392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293960" y="409572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648120" y="3980160"/>
                <a:ext cx="603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 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275240" y="3688920"/>
                <a:ext cx="27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251480" y="4492080"/>
                <a:ext cx="281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02560" y="3420360"/>
                <a:ext cx="279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54680" y="4166640"/>
                <a:ext cx="281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707160" y="3527280"/>
                <a:ext cx="569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987800" y="2788920"/>
                <a:ext cx="76320" cy="5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163840" y="3143160"/>
                <a:ext cx="76320" cy="5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673520" y="3879720"/>
                <a:ext cx="75960" cy="5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60560" y="4481280"/>
                <a:ext cx="76320" cy="58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4320" bIns="-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4006440" y="2827080"/>
                <a:ext cx="98100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006800" y="2941560"/>
                <a:ext cx="1207800" cy="229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998520" y="3917880"/>
                <a:ext cx="687240" cy="171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06800" y="4089240"/>
                <a:ext cx="679320" cy="401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998880" y="3558960"/>
                <a:ext cx="0" cy="86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69920" y="3472920"/>
                <a:ext cx="1960560" cy="10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ositive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ydrogen regions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f water molecules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ling to chloride anions (Cl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372000" y="4657680"/>
                <a:ext cx="255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806880" y="438300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352920" y="381636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63720" y="298440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64800" y="4253760"/>
                <a:ext cx="243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89920" y="4987440"/>
                <a:ext cx="243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79160" y="4817520"/>
                <a:ext cx="243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868080" y="3075840"/>
                <a:ext cx="243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348240" y="3391920"/>
                <a:ext cx="279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62680" y="2694960"/>
                <a:ext cx="280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14600" y="2754000"/>
                <a:ext cx="570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40200" y="4028760"/>
                <a:ext cx="4424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1211040" y="614628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97CB-BBE7-4FFF-942D-1C3A9D0E1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 can also interact with polar molecules such as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01320" y="3002040"/>
            <a:ext cx="8618400" cy="2561040"/>
            <a:chOff x="301320" y="3002040"/>
            <a:chExt cx="8618400" cy="2561040"/>
          </a:xfrm>
        </p:grpSpPr>
        <p:grpSp>
          <p:nvGrpSpPr>
            <p:cNvPr id="318" name=""/>
            <p:cNvGrpSpPr/>
            <p:nvPr/>
          </p:nvGrpSpPr>
          <p:grpSpPr>
            <a:xfrm>
              <a:off x="1296360" y="3002040"/>
              <a:ext cx="7623360" cy="2561040"/>
              <a:chOff x="1296360" y="3002040"/>
              <a:chExt cx="7623360" cy="2561040"/>
            </a:xfrm>
          </p:grpSpPr>
          <p:pic>
            <p:nvPicPr>
              <p:cNvPr id="3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72400" y="3002040"/>
                <a:ext cx="5230440" cy="179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78440" y="3178440"/>
                <a:ext cx="1483560" cy="12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ts val="18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is oxygen is attracted to a slight positive charge on the lysozyme molecul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805080" y="3377520"/>
                <a:ext cx="0" cy="841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809680" y="4165200"/>
                <a:ext cx="3110040" cy="77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ts val="18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is oxygen is attracted to a slight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egative charge on the lysozyme molecul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296360" y="4784760"/>
                <a:ext cx="1797120" cy="77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Lysozyme molecule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in a nonaqueous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enviro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188160" y="4781520"/>
                <a:ext cx="2373480" cy="77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b)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ysozyme molecule (purple)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in an aqueous environment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such as tears or sali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655600" y="4815000"/>
                <a:ext cx="309420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c)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onic and polar regions on the protein’s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Surface attract water molecules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976720" y="3996360"/>
                <a:ext cx="377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87840" y="36680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301320" y="524952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3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ED76-C6F7-4E8B-A19E-AD41A833A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Hydrophilic and Hydrophobic Substanc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hydrophilic sub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n affinity fo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7A14-B842-4E6E-B85D-E4ADAB591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hydrophobic sub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have an affinity fo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B719-5B0D-40D8-B14B-58CFF775C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olute Concentration in Aqueous Soluti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ce most biochemical reactions occur in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learn to calculate the concentration of solutes in an aqueous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6988-05AF-4BE2-BE99-8C705B441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s an exact number of molecules of a substance in a given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la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number of moles of solute per liter of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B341-BD23-41D3-AB13-BB5FCC8F2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3.3: Dissociation of water molecules leads to acidic and basic conditions that affect living organis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2BB1-FD5B-4F2A-8416-7FE5CC2BF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 can dissoci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 hydronium ions and hydroxide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s in the concentration of these 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have a great affect on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32840" y="4200480"/>
            <a:ext cx="8783640" cy="2124360"/>
            <a:chOff x="132840" y="4200480"/>
            <a:chExt cx="8783640" cy="2124360"/>
          </a:xfrm>
        </p:grpSpPr>
        <p:grpSp>
          <p:nvGrpSpPr>
            <p:cNvPr id="348" name=""/>
            <p:cNvGrpSpPr/>
            <p:nvPr/>
          </p:nvGrpSpPr>
          <p:grpSpPr>
            <a:xfrm>
              <a:off x="2568240" y="4200480"/>
              <a:ext cx="6348240" cy="2124360"/>
              <a:chOff x="2568240" y="4200480"/>
              <a:chExt cx="6348240" cy="2124360"/>
            </a:xfrm>
          </p:grpSpPr>
          <p:pic>
            <p:nvPicPr>
              <p:cNvPr id="3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68600" y="4423680"/>
                <a:ext cx="6165360" cy="131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2636640" y="5257800"/>
                <a:ext cx="235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038280" y="5775120"/>
                <a:ext cx="116640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ydroniu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8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on (H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568240" y="44992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817040" y="5763240"/>
                <a:ext cx="109944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ydroxi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8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on (OH</a:t>
                </a:r>
                <a:r>
                  <a:rPr b="0" lang="en-US" sz="1600" spc="-1" strike="noStrike" baseline="45000">
                    <a:solidFill>
                      <a:srgbClr val="000000"/>
                    </a:solidFill>
                    <a:latin typeface="Arial"/>
                  </a:rPr>
                  <a:t>–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341560" y="5249160"/>
                <a:ext cx="236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813360" y="4828680"/>
                <a:ext cx="236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360480" y="5184360"/>
                <a:ext cx="236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313680" y="4576680"/>
                <a:ext cx="236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450680" y="5316840"/>
                <a:ext cx="237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84040" y="4861800"/>
                <a:ext cx="236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03400" y="420048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085960" y="4238280"/>
                <a:ext cx="2145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273440" y="483984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32840" y="5184360"/>
              <a:ext cx="2237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on p. 53 of water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soci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04920" y="61722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8B48-00DF-46CA-9BEE-C72A1F9DA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-quarters of the Earth’s surface is submerged in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bundance of water is the main reason the Earth is habi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1240" y="3022560"/>
            <a:ext cx="5964480" cy="3531240"/>
            <a:chOff x="741240" y="3022560"/>
            <a:chExt cx="5964480" cy="353124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1816200" y="3022560"/>
              <a:ext cx="4889520" cy="34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41240" y="624816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F52B-0A98-47BC-842F-1EAC00B42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ffects of Changes in p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E147-4C30-43FF-ADD1-453D7E6EC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cids and Bas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c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y substance that increases the hydrogen ion concentration of a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y substance that reduces the hydrogen ion concentration of a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A5AB-8B0C-4103-B415-0D88DB162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pH Scal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1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H of a 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etermined by the relative concentration of hydrogen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low in an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high in 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6D57-3347-488A-8CCA-2ECA9D213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H scale and pH values of various aqueous 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922040" y="1752120"/>
            <a:ext cx="4655880" cy="4715280"/>
            <a:chOff x="1922040" y="1752120"/>
            <a:chExt cx="4655880" cy="4715280"/>
          </a:xfrm>
        </p:grpSpPr>
        <p:grpSp>
          <p:nvGrpSpPr>
            <p:cNvPr id="376" name=""/>
            <p:cNvGrpSpPr/>
            <p:nvPr/>
          </p:nvGrpSpPr>
          <p:grpSpPr>
            <a:xfrm>
              <a:off x="3057480" y="1752120"/>
              <a:ext cx="3520440" cy="4715280"/>
              <a:chOff x="3057480" y="1752120"/>
              <a:chExt cx="3520440" cy="4715280"/>
            </a:xfrm>
          </p:grpSpPr>
          <p:pic>
            <p:nvPicPr>
              <p:cNvPr id="37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60360" y="2104200"/>
                <a:ext cx="1644480" cy="423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 rot="16200000">
                <a:off x="2647800" y="2854440"/>
                <a:ext cx="17244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creasingly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cid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&gt; [OH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200000">
                <a:off x="2688120" y="5050800"/>
                <a:ext cx="16650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creasingly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as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&lt; [OH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57480" y="3977280"/>
                <a:ext cx="11041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eutr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= [OH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004000" y="6008400"/>
                <a:ext cx="1226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ven clean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14120" y="1951920"/>
                <a:ext cx="384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617000" y="2245320"/>
                <a:ext cx="384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623840" y="2559600"/>
                <a:ext cx="384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630680" y="2851560"/>
                <a:ext cx="384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642560" y="3156120"/>
                <a:ext cx="384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638240" y="3459960"/>
                <a:ext cx="384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630680" y="3763080"/>
                <a:ext cx="384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642560" y="4066200"/>
                <a:ext cx="384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642560" y="4359960"/>
                <a:ext cx="384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630680" y="4653720"/>
                <a:ext cx="384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640400" y="4977000"/>
                <a:ext cx="383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640400" y="5282280"/>
                <a:ext cx="383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638960" y="5573880"/>
                <a:ext cx="383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638960" y="5868360"/>
                <a:ext cx="383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638960" y="6161760"/>
                <a:ext cx="383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509720" y="1752120"/>
                <a:ext cx="937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 Sca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973040" y="2263320"/>
                <a:ext cx="9928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attery ac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995360" y="2585880"/>
                <a:ext cx="15764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gestive (stomach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juice, lemon ju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03640" y="2850480"/>
                <a:ext cx="15458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inegar, beer, wine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l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002560" y="3180960"/>
                <a:ext cx="1059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mato ju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994280" y="3461400"/>
                <a:ext cx="10612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lack coffee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ainwa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996440" y="3782520"/>
                <a:ext cx="549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r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992480" y="4066200"/>
                <a:ext cx="10947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ure wa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uman bloo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994280" y="4523400"/>
                <a:ext cx="831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awa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993560" y="5101920"/>
                <a:ext cx="1330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ilk of magnes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990680" y="5396400"/>
                <a:ext cx="1587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usehold ammon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990680" y="5723640"/>
                <a:ext cx="1410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usehold bleac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1922040" y="612108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3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FA40-AEFB-4379-BF11-CAFA89252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uff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nternal pH of most living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remain close to pH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AE9D-2036-4433-97B9-DD7D9F38C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47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913"/>
              </a:spcBef>
              <a:spcAft>
                <a:spcPts val="85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ubstances that minimize changes in the concentrations of hydrogen and hydroxide ions in a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 of an acid-base pair that reversibly combines with hydrogen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F41D-73DF-4B73-A1BA-002133D70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8080" y="4114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on Buff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" y="16002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2654280"/>
            <a:ext cx="84582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s are able to donate [H+] when they are deple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s are able to accept [H+] when they are in ex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ids will donate [H+] and therefore increase the [H+] of the buffer.  This will shift the equilibrium to the left, keeping things s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s will accept [H+] and therefore decrease the [H+] of the buffer.  This will shift the equilibrium to the right, keeping things s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496880"/>
            <a:ext cx="91440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ic Acid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icarbonate ion   +    Hydrogen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ak aci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Conjugat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It didn’t dissociate complete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F418-6BCE-49C7-ACF5-C6F908402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Threat of Acid Precipit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id precipi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rain, snow, or fog with a pH lower than pH 5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aused primarily by the mixing of different pollutants with water in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E543-A0C6-43F2-97CC-EC10177BD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id precipi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damage life in Earth’s 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830160" y="2119320"/>
            <a:ext cx="7170840" cy="4370760"/>
            <a:chOff x="830160" y="2119320"/>
            <a:chExt cx="7170840" cy="4370760"/>
          </a:xfrm>
        </p:grpSpPr>
        <p:grpSp>
          <p:nvGrpSpPr>
            <p:cNvPr id="430" name=""/>
            <p:cNvGrpSpPr/>
            <p:nvPr/>
          </p:nvGrpSpPr>
          <p:grpSpPr>
            <a:xfrm>
              <a:off x="1905120" y="2119320"/>
              <a:ext cx="6095880" cy="4281120"/>
              <a:chOff x="1905120" y="2119320"/>
              <a:chExt cx="6095880" cy="4281120"/>
            </a:xfrm>
          </p:grpSpPr>
          <p:pic>
            <p:nvPicPr>
              <p:cNvPr id="4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5120" y="2133000"/>
                <a:ext cx="6095880" cy="4267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2" name=""/>
              <p:cNvGrpSpPr/>
              <p:nvPr/>
            </p:nvGrpSpPr>
            <p:grpSpPr>
              <a:xfrm>
                <a:off x="2059560" y="2119320"/>
                <a:ext cx="1373760" cy="4122000"/>
                <a:chOff x="2059560" y="2119320"/>
                <a:chExt cx="1373760" cy="41220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2116800" y="3760560"/>
                  <a:ext cx="441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167920" y="2119320"/>
                  <a:ext cx="2840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158200" y="2652480"/>
                  <a:ext cx="2840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158200" y="3186000"/>
                  <a:ext cx="2840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162520" y="3718080"/>
                  <a:ext cx="2840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162520" y="4259520"/>
                  <a:ext cx="2840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063880" y="4798800"/>
                  <a:ext cx="3830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063880" y="5355000"/>
                  <a:ext cx="3830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059560" y="5892120"/>
                  <a:ext cx="3830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589840" y="2148480"/>
                  <a:ext cx="70632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cidi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461320" y="2732760"/>
                  <a:ext cx="70560" cy="1008360"/>
                </a:xfrm>
                <a:custGeom>
                  <a:avLst/>
                  <a:gdLst>
                    <a:gd name="textAreaLeft" fmla="*/ 0 w 70560"/>
                    <a:gd name="textAreaRight" fmla="*/ 25560 w 70560"/>
                    <a:gd name="textAreaTop" fmla="*/ 26280 h 1008360"/>
                    <a:gd name="textAreaBottom" fmla="*/ 982080 h 100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2590200" y="2945520"/>
                  <a:ext cx="58140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cid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ai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594520" y="3516840"/>
                  <a:ext cx="83880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ormal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ai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593080" y="5662080"/>
                  <a:ext cx="66060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asi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830160" y="618444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3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8534520" y="59738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5BA9-70D8-4266-9D96-4A8354A8E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3.1: The polarity of water molecules results in hydrogen bo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water molecule is a polar molec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6936-8440-49AC-9541-D1483D207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olarity of water molec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them to form hydrogen bonds with each 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ibutes to the various properties water exhi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863360" y="3505320"/>
            <a:ext cx="4994280" cy="2972160"/>
            <a:chOff x="1863360" y="3505320"/>
            <a:chExt cx="4994280" cy="2972160"/>
          </a:xfrm>
        </p:grpSpPr>
        <p:grpSp>
          <p:nvGrpSpPr>
            <p:cNvPr id="187" name=""/>
            <p:cNvGrpSpPr/>
            <p:nvPr/>
          </p:nvGrpSpPr>
          <p:grpSpPr>
            <a:xfrm>
              <a:off x="2819520" y="3505320"/>
              <a:ext cx="4038120" cy="2895480"/>
              <a:chOff x="2819520" y="3505320"/>
              <a:chExt cx="4038120" cy="2895480"/>
            </a:xfrm>
          </p:grpSpPr>
          <p:pic>
            <p:nvPicPr>
              <p:cNvPr id="18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9520" y="3505320"/>
                <a:ext cx="3610440" cy="289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4676040" y="4343760"/>
                <a:ext cx="1083960" cy="24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5346360" y="4593600"/>
                <a:ext cx="413280" cy="78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822640" y="4330080"/>
                <a:ext cx="103500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ts val="18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ydrogen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ond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434840" y="435312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953960" y="5167080"/>
                <a:ext cx="183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406040" y="459396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19960" y="502344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90480" y="501840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62240" y="543384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864960" y="4966920"/>
                <a:ext cx="4410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57080" y="4026960"/>
                <a:ext cx="4410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38720" y="5418720"/>
                <a:ext cx="4546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174560" y="5200560"/>
                <a:ext cx="4410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1863360" y="617184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B8D8-349B-4245-AE17-11597111E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3.2: Four emergent properties of water contribute to Earth’s fitness for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D5E0-55F0-48D8-BD2D-8C5A80647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hes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 molecules exhibit cohe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bonding of a high percentage of the molecules to neighboring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ue to hydrogen bo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EF84-70B5-4877-98AC-AF933DDD9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pull water up through the microscopic vessels of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508800" y="6202440"/>
            <a:ext cx="493560" cy="70920"/>
            <a:chOff x="6508800" y="6202440"/>
            <a:chExt cx="493560" cy="70920"/>
          </a:xfrm>
        </p:grpSpPr>
        <p:sp>
          <p:nvSpPr>
            <p:cNvPr id="213" name=""/>
            <p:cNvSpPr/>
            <p:nvPr/>
          </p:nvSpPr>
          <p:spPr>
            <a:xfrm>
              <a:off x="6522840" y="6237360"/>
              <a:ext cx="459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08800" y="6202440"/>
              <a:ext cx="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02360" y="6203160"/>
              <a:ext cx="0" cy="7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817200" y="2592360"/>
            <a:ext cx="6292080" cy="3961440"/>
            <a:chOff x="817200" y="2592360"/>
            <a:chExt cx="6292080" cy="396144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1874880" y="2592360"/>
              <a:ext cx="512748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 flipH="1">
              <a:off x="5678280" y="3448080"/>
              <a:ext cx="230040" cy="3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00760" y="3448080"/>
              <a:ext cx="237960" cy="85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29400" y="3183120"/>
              <a:ext cx="2230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ter conducting ce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10520" y="6232320"/>
              <a:ext cx="698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µ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17200" y="624816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3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7BA9-5352-40BE-9A96-12DC6008F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face t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measure of how hard it is to break the surface of a 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related to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312560" y="3251160"/>
            <a:ext cx="5469120" cy="3315240"/>
            <a:chOff x="1312560" y="3251160"/>
            <a:chExt cx="5469120" cy="331524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2438280" y="3251160"/>
              <a:ext cx="434340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312560" y="626076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E1CD-1AD1-45FB-AAC9-73725AB03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 </cp:lastModifiedBy>
  <cp:lastPrinted>2004-10-27T10:57:23Z</cp:lastPrinted>
  <dcterms:modified xsi:type="dcterms:W3CDTF">2006-09-20T09:08:09Z</dcterms:modified>
  <cp:revision>201</cp:revision>
  <dc:subject/>
  <dc:title>video slide</dc:title>
</cp:coreProperties>
</file>